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60B0-5164-4E8E-8249-F0222204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will say what we saw, gained, learned, etc. from the experience. It will be a brief stat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felt that our group dynamic brought out everyone’s strengths when coordinating events that we were passionate about. We were able to depend on each other to get the job don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add pictur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D3B1-46A5-4C6E-A03E-A9CBEFB6C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9CF-356E-44A6-895D-05822B37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D5C-56E6-4485-922D-5DBF1D77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E60-5530-40B6-B90B-13FB2E45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BA7-0ED3-4E4B-96FE-5E901E6D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2E5-78D9-4AE8-A227-F489D5B2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371-6993-482F-B5E1-96A9B0D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BE1-CBD7-49CC-B386-FD0076EB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C93-A373-43FA-8F04-A591DA34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4A0-5CED-49E4-A782-0715899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36E-98FA-4CFF-B34E-8BF87A1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497-84A3-421D-BF87-5E3D7090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A31-332A-42A9-B80A-4A90CA9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B080-48CC-43BB-BA58-C86508BB7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esterville Naturals Baseball Team &amp; Otterbein Health and Sport Sciences, Student Projec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219320" y="4038480"/>
            <a:ext cx="655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leigh Immel, Adam Collier, Taylor Lindsey, Jason Combs, &amp; Christian Bret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E 4900: Internship Semin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sonal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63480" y="685800"/>
            <a:ext cx="7871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m Collier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Communication is the key to suc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son Combs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Teamwork makes the dream wor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ylor Lindsey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 learned that strengths can go a long way when trying to get things done and groups work better when they don’t all come from the same background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nleigh Immel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 learned that through utilizing every group member’s individual strengths, we were able to get the job done efficiently &amp; effectively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istian Brett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 learned that incorporating people with different skills and strengths helps achieve mo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825480" y="1143000"/>
            <a:ext cx="3776760" cy="502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49092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375000" cy="449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724280" cy="3541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295280" y="1311120"/>
            <a:ext cx="2948040" cy="3926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861080" y="1295280"/>
            <a:ext cx="2933640" cy="3907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20680" y="2057400"/>
            <a:ext cx="5587920" cy="41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929200" y="1066680"/>
            <a:ext cx="2881440" cy="3837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sterville Naturals Baseball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. Sulliv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y Diet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m Coach, Mark Hendrick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terbein Baseball Assistant Coach, John Lacor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mun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sterville, O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Otterbein HSS Stu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oa Middle School, Basebal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terbein Baseball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hl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al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12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a volunteer project for a local youth baseball team that will provide mentorship experiences for Otterbein HSS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mentorship with youth athletes through announced introductions of them at an Otterbein Athletic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a legacy for volunteerism &amp; mentorship between Otterbein HSS Students and the baseball team’s coach for future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for the Westerville Natural’s Baseball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orship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ited Youth Baseball Players to an Otterbein Baseball Game for Name &amp; Position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eer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 Gravel for Youth Team’s Practice/Gam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torship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ed out to Head Coaches from Westerville Natural’s &amp; Otterbein Baseball Teams for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d a Date (April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ed team rost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a brief meet &amp; greet prior to the introduction 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lunteer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y Dietz (Team Parent) introduced idea during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ed Joy Dietz after class for more details and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ed Head Coach, Hedrickson for task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date (March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 Gra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&amp; Completed Volunte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&amp; Completed Mentorship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9880" y="2843280"/>
            <a:ext cx="2743200" cy="3647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762120" y="2843280"/>
            <a:ext cx="2819160" cy="3752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ed volunteer opportunity for future Otterbein HSS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nection with this youth team relates Otterbein HSS Students to a network of Westerville Community Youth Athl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orship with the youth athletes may inspire them to become college athletes or to set athletic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3:47:16Z</dcterms:created>
  <dc:creator>Otterbein Athletic Department</dc:creator>
  <dc:description/>
  <dc:language>en-US</dc:language>
  <cp:lastModifiedBy>kenleigh jade</cp:lastModifiedBy>
  <cp:lastPrinted>2011-12-02T02:43:34Z</cp:lastPrinted>
  <dcterms:modified xsi:type="dcterms:W3CDTF">2016-04-25T13:33:19Z</dcterms:modified>
  <cp:revision>205</cp:revision>
  <dc:subject/>
  <dc:title>No Slide Title</dc:title>
</cp:coreProperties>
</file>